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8CD1E-F0AF-48D1-A750-8044C744E3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1F195-D4B8-439B-A48A-E1248A78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FB6B8-1E38-4595-AD47-2E5B8E7E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1BCC5-900C-4D29-B8F6-9250A3FBAF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1F84D-2119-4913-93BD-188467C2F6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469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313E2-5752-4F65-82D2-C5018BE3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C4E1B-F83F-4596-B86F-7B526E8D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469A7-A018-4B87-999F-28E8F1B1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C5BB8-8B91-4906-AA6C-579C107CD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237600"/>
            <a:ext cx="83059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46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853B7-D03C-42F4-AEAA-95F939581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30493-4358-4F8F-A441-CE087A32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469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B9D49-3447-4F63-A6D4-A8A577BA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5B09B-78F4-440C-9310-36F3E5B3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DC46B-D401-48D4-8AE6-BE1540EA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DF4D1E-99AF-4E97-8A4B-342C7E8E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24F44-4BBD-4EC6-851C-5F4C2210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6750C-DAF2-4201-8B97-C520AF3490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A079C-2B0B-4AE6-B4E8-99897A6A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B34A7-EEC8-447B-9303-6D00C019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6A4DB-6EE2-480D-ACD3-858B4D442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37600"/>
            <a:ext cx="83059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46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A1B13-D2F8-437C-865E-BC7EAF867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4A2B9-0503-44EF-AB5C-E872B2B4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A8DA0-46E4-447F-A8C4-CCDEA9B9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E6EF7-DE63-4C4C-A185-383888B9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lvl="1" marL="698400" indent="-268560"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lvl="2" marL="1020600" indent="-214560">
              <a:spcBef>
                <a:spcPts val="1001"/>
              </a:spcBef>
              <a:buClr>
                <a:srgbClr val="b10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lvl="3" marL="1342800" indent="-214560"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lvl="4" marL="1665000" indent="-214560">
              <a:spcBef>
                <a:spcPts val="1001"/>
              </a:spcBef>
              <a:buClr>
                <a:srgbClr val="b10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lvl="5" marL="1665000" indent="-21456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lvl="6" marL="1665000" indent="-21456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124080" y="662292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34694"/>
                </a:solidFill>
                <a:latin typeface="Times New Roman"/>
              </a:rPr>
              <a:t>Copyright © 2005 Brooks/Cole — Thomson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76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ahoma"/>
              </a:rPr>
              <a:t>Bi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105520" y="76320"/>
            <a:ext cx="39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HAPTER 1 A View of Li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52280" y="380880"/>
            <a:ext cx="1067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86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34694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346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6858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65530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33744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34694"/>
                </a:solidFill>
                <a:latin typeface="Times New Roman"/>
              </a:rPr>
              <a:t>Copyright © 2005 Brooks/Cole — Thomson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1480" y="3808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ahoma"/>
              </a:rPr>
              <a:t>Bi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60920" y="379440"/>
            <a:ext cx="396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olomon • Berg • Mart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6280" y="2201400"/>
            <a:ext cx="325764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hapt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r">
              <a:spcBef>
                <a:spcPts val="901"/>
              </a:spcBef>
              <a:buClr>
                <a:srgbClr val="03469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4694"/>
                </a:solidFill>
                <a:latin typeface="Times New Roman"/>
              </a:rPr>
              <a:t>Click to edit the outline text format</a:t>
            </a:r>
            <a:endParaRPr b="1" lang="en-US" sz="3600" spc="-1" strike="noStrike">
              <a:solidFill>
                <a:srgbClr val="034694"/>
              </a:solidFill>
              <a:latin typeface="Times New Roman"/>
            </a:endParaRPr>
          </a:p>
          <a:p>
            <a:pPr lvl="1" marL="45720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2" marL="857160" algn="ctr">
              <a:spcBef>
                <a:spcPts val="799"/>
              </a:spcBef>
              <a:buClr>
                <a:srgbClr val="b1006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6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34694"/>
              </a:solidFill>
              <a:latin typeface="Arial"/>
            </a:endParaRPr>
          </a:p>
          <a:p>
            <a:pPr lvl="3" marL="1200240" algn="ctr">
              <a:spcBef>
                <a:spcPts val="700"/>
              </a:spcBef>
              <a:buClr>
                <a:srgbClr val="03469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4" marL="1542960" algn="ctr">
              <a:spcBef>
                <a:spcPts val="601"/>
              </a:spcBef>
              <a:buClr>
                <a:srgbClr val="b1006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69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  <a:p>
            <a:pPr lvl="5" marL="154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69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  <a:p>
            <a:pPr lvl="6" marL="154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69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86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34694"/>
                </a:solidFill>
                <a:latin typeface="Verdana"/>
              </a:rPr>
              <a:t>A View of Life</a:t>
            </a:r>
            <a:endParaRPr b="1" lang="en-US" sz="5400" spc="-1" strike="noStrike">
              <a:solidFill>
                <a:srgbClr val="034694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exual reproduction and sexual reprod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828800"/>
          <a:ext cx="35733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35733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114800" y="2666880"/>
            <a:ext cx="4871880" cy="36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Adaptation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Populations evolve to better survive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Adaptation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99"/>
              </a:spcBef>
              <a:buClr>
                <a:srgbClr val="b10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694"/>
                </a:solidFill>
                <a:latin typeface="Arial"/>
              </a:rPr>
              <a:t>Characteristics that enhance an organism’s ability to survive in a particular environment</a:t>
            </a:r>
            <a:endParaRPr b="0" lang="en-US" sz="3200" spc="-1" strike="noStrike">
              <a:solidFill>
                <a:srgbClr val="034694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99"/>
              </a:spcBef>
              <a:buClr>
                <a:srgbClr val="b10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694"/>
                </a:solidFill>
                <a:latin typeface="Arial"/>
              </a:rPr>
              <a:t>May be structural, physiological, behavioral, or a combination</a:t>
            </a:r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09880" y="152280"/>
            <a:ext cx="5173920" cy="65404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34694"/>
                </a:solidFill>
                <a:latin typeface="Verdana"/>
              </a:rPr>
              <a:t>The hierarchy</a:t>
            </a:r>
            <a:br>
              <a:rPr sz="2400"/>
            </a:br>
            <a:r>
              <a:rPr b="0" lang="en-US" sz="2400" spc="-1" strike="noStrike">
                <a:solidFill>
                  <a:srgbClr val="034694"/>
                </a:solidFill>
                <a:latin typeface="Verdana"/>
              </a:rPr>
              <a:t>of biological</a:t>
            </a:r>
            <a:br>
              <a:rPr sz="2400"/>
            </a:br>
            <a:r>
              <a:rPr b="0" lang="en-US" sz="2400" spc="-1" strike="noStrike">
                <a:solidFill>
                  <a:srgbClr val="034694"/>
                </a:solidFill>
                <a:latin typeface="Verdana"/>
              </a:rPr>
              <a:t>organiz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The cell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Consists of atoms and molecule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Is the basic unit of life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In multicellular organisms, associates to form tissue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Tissues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In animals, an example is muscle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In plants, an example is epidermi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Tissues are organized into organs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Tissues and organs form organ systems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Population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Members of a species that live in the same area at the same time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Community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Populations that live together and interact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Ecosystem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A community and the environment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To carry on life processes, an organism must have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Precise instruction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Communication among cell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This information is coded and delivered by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Chemical substance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Electric impulse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DNA is the large molecule that makes up genes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Genes specify instructions for making every living organism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Watson and Crick worked out structure of DNA in 1953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34694"/>
                </a:solidFill>
                <a:latin typeface="Verdana"/>
              </a:rPr>
              <a:t>DNA consists of two</a:t>
            </a:r>
            <a:br>
              <a:rPr sz="2400"/>
            </a:br>
            <a:r>
              <a:rPr b="0" lang="en-US" sz="2400" spc="-1" strike="noStrike">
                <a:solidFill>
                  <a:srgbClr val="034694"/>
                </a:solidFill>
                <a:latin typeface="Verdana"/>
              </a:rPr>
              <a:t>chains of atoms</a:t>
            </a:r>
            <a:br>
              <a:rPr sz="2400"/>
            </a:br>
            <a:r>
              <a:rPr b="0" lang="en-US" sz="2400" spc="-1" strike="noStrike">
                <a:solidFill>
                  <a:srgbClr val="034694"/>
                </a:solidFill>
                <a:latin typeface="Verdana"/>
              </a:rPr>
              <a:t>twisted into a helix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768920" y="76320"/>
            <a:ext cx="4222800" cy="631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DNA contains “recipe” for proteins 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Proteins determine structure and function of cells and tissues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The Human Genome Project mapped the complete set of human gene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Genomics analyses the DNA sequence of an organism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While genomics will lead to breakthroughs in science, it also raises ethical concern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694"/>
                </a:solidFill>
                <a:latin typeface="Arial"/>
              </a:rPr>
              <a:t>Safeguarding the privacy of genetic information, for example</a:t>
            </a:r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In multi-cellular organisms, communication with and among cells is critical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Some proteins are important in this communication 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Cell-to-cell communication is a complex process called cell signaling 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Information transmitted from one part of the body to another is important in regulating life processes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Information is transmitted by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Hormone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Neurotransmitters and their receptor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Evolution is the unifying concept of biology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Biology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Hierarchical classification scheme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Identifies the approximately 1.7 million species of living organisms 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Systematics studies the diversity of organisms and their evolutionary relationships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Taxonomy is the science of naming and classifying organism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Binomial system of nomenclature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Developed in the 18th century by Linnaeus, a Swedish botanist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Names and classifies organism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Basic unit is a specie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Each species assigned a two-part name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Binomial system of nomenclature uses a series of taxonomic categories from species to domain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391600" cy="549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694"/>
                </a:solidFill>
                <a:latin typeface="Arial"/>
              </a:rPr>
              <a:t>Each category is </a:t>
            </a:r>
            <a:br>
              <a:rPr sz="2400"/>
            </a:br>
            <a:r>
              <a:rPr b="0" lang="en-US" sz="2400" spc="-1" strike="noStrike">
                <a:solidFill>
                  <a:srgbClr val="034694"/>
                </a:solidFill>
                <a:latin typeface="Arial"/>
              </a:rPr>
              <a:t>more general and</a:t>
            </a:r>
            <a:br>
              <a:rPr sz="2400"/>
            </a:br>
            <a:r>
              <a:rPr b="0" lang="en-US" sz="2400" spc="-1" strike="noStrike">
                <a:solidFill>
                  <a:srgbClr val="034694"/>
                </a:solidFill>
                <a:latin typeface="Arial"/>
              </a:rPr>
              <a:t>more inclusive</a:t>
            </a:r>
            <a:br>
              <a:rPr sz="2400"/>
            </a:br>
            <a:r>
              <a:rPr b="0" lang="en-US" sz="2400" spc="-1" strike="noStrike">
                <a:solidFill>
                  <a:srgbClr val="034694"/>
                </a:solidFill>
                <a:latin typeface="Arial"/>
              </a:rPr>
              <a:t>than the one</a:t>
            </a:r>
            <a:br>
              <a:rPr sz="2400"/>
            </a:br>
            <a:r>
              <a:rPr b="0" lang="en-US" sz="2400" spc="-1" strike="noStrike">
                <a:solidFill>
                  <a:srgbClr val="034694"/>
                </a:solidFill>
                <a:latin typeface="Arial"/>
              </a:rPr>
              <a:t>below it</a:t>
            </a: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0" y="76320"/>
            <a:ext cx="4424400" cy="658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Natural selection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Theory of evolution developed by Darwin and Wallace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34694"/>
                </a:solidFill>
                <a:latin typeface="Arial"/>
              </a:rPr>
              <a:t>The Origin of Species by Natural Selection</a:t>
            </a: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 published in 1859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Natural selection based on four observations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Members of a species show variation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Organisms produce many more offspring than will survive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Organisms compete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Only some survive to reproduce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Living organisms composed of cell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Unicellular organism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99"/>
              </a:spcBef>
              <a:buClr>
                <a:srgbClr val="b10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694"/>
                </a:solidFill>
                <a:latin typeface="Arial"/>
              </a:rPr>
              <a:t>Single cell</a:t>
            </a:r>
            <a:endParaRPr b="0" lang="en-US" sz="32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Multicellular organism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99"/>
              </a:spcBef>
              <a:buClr>
                <a:srgbClr val="b10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694"/>
                </a:solidFill>
                <a:latin typeface="Arial"/>
              </a:rPr>
              <a:t>Many cells organized to form tissues, organs, and organ systems</a:t>
            </a:r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34694"/>
                </a:solidFill>
                <a:latin typeface="Arial"/>
              </a:rPr>
              <a:t>Egg masses of</a:t>
            </a: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69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34694"/>
                </a:solidFill>
                <a:latin typeface="Arial"/>
              </a:rPr>
              <a:t>the wood frog—</a:t>
            </a: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69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34694"/>
                </a:solidFill>
                <a:latin typeface="Arial"/>
              </a:rPr>
              <a:t>Many more </a:t>
            </a:r>
            <a:br>
              <a:rPr sz="2400"/>
            </a:br>
            <a:r>
              <a:rPr b="0" lang="en-US" sz="2400" spc="-1" strike="noStrike">
                <a:solidFill>
                  <a:srgbClr val="034694"/>
                </a:solidFill>
                <a:latin typeface="Arial"/>
              </a:rPr>
              <a:t>produced than</a:t>
            </a:r>
            <a:br>
              <a:rPr sz="2400"/>
            </a:br>
            <a:r>
              <a:rPr b="0" lang="en-US" sz="2400" spc="-1" strike="noStrike">
                <a:solidFill>
                  <a:srgbClr val="034694"/>
                </a:solidFill>
                <a:latin typeface="Arial"/>
              </a:rPr>
              <a:t>can survive</a:t>
            </a: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505320" y="1143000"/>
            <a:ext cx="5119560" cy="51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Variation among individuals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Result of different varieties of genes that code each characteristic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Ultimate source of variation is random mutation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99"/>
              </a:spcBef>
              <a:buClr>
                <a:srgbClr val="b10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694"/>
                </a:solidFill>
                <a:latin typeface="Arial"/>
              </a:rPr>
              <a:t>Chemical or physical changes in DNA that can be inherited</a:t>
            </a:r>
            <a:endParaRPr b="0" lang="en-US" sz="3200" spc="-1" strike="noStrike">
              <a:solidFill>
                <a:srgbClr val="034694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99"/>
              </a:spcBef>
              <a:buClr>
                <a:srgbClr val="b10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694"/>
                </a:solidFill>
                <a:latin typeface="Arial"/>
              </a:rPr>
              <a:t>Modifies genes</a:t>
            </a:r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Every cell of an organism requires nutrients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Certain nutrients are used as fuel for cellular respiration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Virtually all cells carry on cellular respiration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A self-sufficient ecosystem contains three types of organisms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Producer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Consumer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Decomposer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Ecosystems depend on continuous input of energy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Organisms can neither create energy nor use it with complete efficiency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During every energy transaction, some is lost to the environment as heat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694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694"/>
                </a:solidFill>
                <a:latin typeface="Arial"/>
              </a:rPr>
              <a:t>flow</a:t>
            </a: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743200" y="152280"/>
            <a:ext cx="4168800" cy="654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The scientific method involves systematic thought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Deductive reasoning draws conclusions from premise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Inductive reasoning begins with observations and draws conclusions or extrapolate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The scientific</a:t>
            </a:r>
            <a:br>
              <a:rPr sz="2800"/>
            </a:b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method involves</a:t>
            </a:r>
            <a:br>
              <a:rPr sz="2800"/>
            </a:b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ordered steps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694"/>
                </a:solidFill>
                <a:latin typeface="Arial"/>
              </a:rPr>
              <a:t>Hypothesis</a:t>
            </a: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694"/>
                </a:solidFill>
                <a:latin typeface="Arial"/>
              </a:rPr>
              <a:t>Method</a:t>
            </a: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694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694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962520" y="152280"/>
            <a:ext cx="3006720" cy="654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Cell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Plasma membrane regulates passage of material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Specialized molecules (usually DNA) contain genetic instruction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Internal structures called organelles perform specific function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Types of cell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Prokaryotic cells, exclusive to bacteria and microscopic organism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Eukaryotic cells contain a variety of organelles, including a nucleus, which houses DNA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Biological growth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Increase in the size of cells, the number of cells, or both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Development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Includes all the changes that take place during an organism’s life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Structures and body form are adapted to an organism’s function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Metabolism processe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Chemical reactions and energy transformation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Essential to nutrition, growth and repair of cells, and conversion of energy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Regulation of metabolic processes maintains homeostasi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Stimuli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Physical or chemical changes in the internal or external environment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The organism responds to, for example, changes in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2" marL="1074600" indent="-226080">
              <a:lnSpc>
                <a:spcPct val="90000"/>
              </a:lnSpc>
              <a:spcBef>
                <a:spcPts val="799"/>
              </a:spcBef>
              <a:buClr>
                <a:srgbClr val="b10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694"/>
                </a:solidFill>
                <a:latin typeface="Arial"/>
              </a:rPr>
              <a:t>Light</a:t>
            </a:r>
            <a:endParaRPr b="0" lang="en-US" sz="3200" spc="-1" strike="noStrike">
              <a:solidFill>
                <a:srgbClr val="034694"/>
              </a:solidFill>
              <a:latin typeface="Arial"/>
            </a:endParaRPr>
          </a:p>
          <a:p>
            <a:pPr lvl="2" marL="1074600" indent="-226080">
              <a:lnSpc>
                <a:spcPct val="90000"/>
              </a:lnSpc>
              <a:spcBef>
                <a:spcPts val="799"/>
              </a:spcBef>
              <a:buClr>
                <a:srgbClr val="b10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694"/>
                </a:solidFill>
                <a:latin typeface="Arial"/>
              </a:rPr>
              <a:t>Temperature, pressure, or sound</a:t>
            </a:r>
            <a:endParaRPr b="0" lang="en-US" sz="3200" spc="-1" strike="noStrike">
              <a:solidFill>
                <a:srgbClr val="034694"/>
              </a:solidFill>
              <a:latin typeface="Arial"/>
            </a:endParaRPr>
          </a:p>
          <a:p>
            <a:pPr lvl="2" marL="1074600" indent="-226080">
              <a:lnSpc>
                <a:spcPct val="90000"/>
              </a:lnSpc>
              <a:spcBef>
                <a:spcPts val="799"/>
              </a:spcBef>
              <a:buClr>
                <a:srgbClr val="b10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694"/>
                </a:solidFill>
                <a:latin typeface="Arial"/>
              </a:rPr>
              <a:t>The chemical composition of soil</a:t>
            </a:r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Locomotion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Simpler organism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2" marL="1042200" indent="-219240">
              <a:lnSpc>
                <a:spcPct val="90000"/>
              </a:lnSpc>
              <a:spcBef>
                <a:spcPts val="799"/>
              </a:spcBef>
              <a:buClr>
                <a:srgbClr val="b10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694"/>
                </a:solidFill>
                <a:latin typeface="Arial"/>
              </a:rPr>
              <a:t>Amoeboid movement</a:t>
            </a:r>
            <a:endParaRPr b="0" lang="en-US" sz="3200" spc="-1" strike="noStrike">
              <a:solidFill>
                <a:srgbClr val="034694"/>
              </a:solidFill>
              <a:latin typeface="Arial"/>
            </a:endParaRPr>
          </a:p>
          <a:p>
            <a:pPr lvl="2" marL="1042200" indent="-219240">
              <a:lnSpc>
                <a:spcPct val="90000"/>
              </a:lnSpc>
              <a:spcBef>
                <a:spcPts val="799"/>
              </a:spcBef>
              <a:buClr>
                <a:srgbClr val="b10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694"/>
                </a:solidFill>
                <a:latin typeface="Arial"/>
              </a:rPr>
              <a:t>The beating of cilia or flagella</a:t>
            </a:r>
            <a:endParaRPr b="0" lang="en-US" sz="3200" spc="-1" strike="noStrike">
              <a:solidFill>
                <a:srgbClr val="034694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Animal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2" marL="1042200" indent="-219240">
              <a:lnSpc>
                <a:spcPct val="90000"/>
              </a:lnSpc>
              <a:spcBef>
                <a:spcPts val="799"/>
              </a:spcBef>
              <a:buClr>
                <a:srgbClr val="b10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694"/>
                </a:solidFill>
                <a:latin typeface="Arial"/>
              </a:rPr>
              <a:t>Move by contracting muscles</a:t>
            </a:r>
            <a:endParaRPr b="0" lang="en-US" sz="3200" spc="-1" strike="noStrike">
              <a:solidFill>
                <a:srgbClr val="034694"/>
              </a:solidFill>
              <a:latin typeface="Arial"/>
            </a:endParaRPr>
          </a:p>
          <a:p>
            <a:pPr lvl="2" marL="1042200" indent="-219240">
              <a:lnSpc>
                <a:spcPct val="90000"/>
              </a:lnSpc>
              <a:spcBef>
                <a:spcPts val="799"/>
              </a:spcBef>
              <a:buClr>
                <a:srgbClr val="b10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694"/>
                </a:solidFill>
                <a:latin typeface="Arial"/>
              </a:rPr>
              <a:t>Some are sessile and have cilia or flagella</a:t>
            </a:r>
            <a:endParaRPr b="0" lang="en-US" sz="3200" spc="-1" strike="noStrike">
              <a:solidFill>
                <a:srgbClr val="034694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Plants respond to light, water, etc.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8T19:49:11Z</dcterms:created>
  <dc:creator>R.L.Pohlman</dc:creator>
  <dc:description/>
  <dc:language>en-US</dc:language>
  <cp:lastModifiedBy>CVSD</cp:lastModifiedBy>
  <dcterms:modified xsi:type="dcterms:W3CDTF">2007-08-21T22:45:34Z</dcterms:modified>
  <cp:revision>75</cp:revision>
  <dc:subject/>
  <dc:title>The Body in Motion</dc:title>
</cp:coreProperties>
</file>